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0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3.wmf" ContentType="image/x-wmf"/>
  <Override PartName="/ppt/media/image5.png" ContentType="image/png"/>
  <Override PartName="/ppt/media/image9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16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7.png" ContentType="image/png"/>
  <Override PartName="/ppt/media/image15.wmf" ContentType="image/x-wmf"/>
  <Override PartName="/ppt/media/image22.jpeg" ContentType="image/jpeg"/>
  <Override PartName="/ppt/media/image25.png" ContentType="image/png"/>
  <Override PartName="/ppt/media/image24.jpeg" ContentType="image/jpeg"/>
  <Override PartName="/ppt/media/image23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0.png" ContentType="image/png"/>
  <Override PartName="/ppt/media/image27.jpeg" ContentType="image/jpeg"/>
  <Override PartName="/ppt/media/image1.wmf" ContentType="image/x-wmf"/>
  <Override PartName="/ppt/media/image6.png" ContentType="image/png"/>
  <Override PartName="/ppt/media/image14.wmf" ContentType="image/x-wmf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dt" idx="25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move the slid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ftr" idx="26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 type="sldNum" idx="27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it-IT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0767A0A-D4B6-4897-A046-EFED69A62C5F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are the currently enabled transition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of them, which state would their firing lead to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Segnaposto numero diapositiva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4A23B52-9375-487E-ACDA-4F9F88C6B2B8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n questo caso non è possibil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Segnaposto numero diapositiva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3EB8379-CD1B-4BD0-A474-EDE08F902D16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fld id="{17FC8465-7300-4D89-942D-3B788867C71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Espace réservé du pied de page 4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fld id="{5BF88B1E-CDC1-40B9-AE2F-F06CA880E01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Espace réservé du pied de page 4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297F-B859-4B7E-8B71-09BA156E2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6F5A-A0EA-4511-9A17-CAF356665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707C-2923-4C42-867D-0903AE3A5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C4BB-59D1-454B-B81D-86160661A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96082-A78B-48C8-9B3A-659BACA23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78C81-A283-4424-8F88-3B9C59C5A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2E046-59B0-46A6-AB9C-E5D1B809C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2E7E7-7EF3-445E-A19D-4E175FD42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7B829-5021-4F42-A557-D4E9FD30E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4400" y="1522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34030-D308-448C-9217-0CAB49233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3FB86-23A8-4010-9F44-6A0D750BA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48A9-723F-40CF-AD7E-36307D82A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1DE93-C892-43E6-BD51-61ABBB0C9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70892-AF9A-4D8F-BBA6-7BA390355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C375C-82F9-4894-AFF5-FBF9803FC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06EFF-0AEC-4EF6-878A-D505D9653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23CD7-5056-4B78-A076-D2281CCF7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DBCD90-4070-4674-9CD0-FF43598DE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693787-1ED1-4E43-850A-88617C3A6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C2F104-E2DC-4028-AC35-4D60D0A71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B1DEA4-1C72-4113-B5CE-08E94A114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36EA12-99EB-47D8-911B-69A5C6B43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879B-126B-4E71-A0CC-1F355BC49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914400" y="1522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8D93D3-C012-4658-8DFB-C7E0D4B37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D6E7FC-690F-4D86-8FDF-945F471F1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EC78DC-A87C-4266-A2FD-F4CC246E2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05B9C3-8D56-4389-9769-C1F0E1BC9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844EFB-52B5-4276-9506-91CC990D5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96F563-F23B-48A5-875D-F79AF8E1F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FE954F-4A37-4261-9D1F-81FA8499B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449ED8-D1AD-4D13-94C3-9746E90F0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7832C1-0775-4E3A-B06F-8348EC741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90BA93-904E-472E-82D4-0BD4DBC19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1FFB-4DB0-4358-B56A-7ED0DFAE4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8219B4-B34E-4ACD-842F-36EABA3ED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021C4B-B6BD-4841-9DB5-031E8DA07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914400" y="1522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579BAF-9912-4D17-9B7B-BA4856357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94BF22-1381-4A97-8456-636D35FA9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F3F714-3FBB-404B-B7A6-01A9BA4EB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EE0914-5A94-4540-8F88-438C5E2A1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AFC5FA-FB51-47B1-B4B8-8E817232D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1DF7E2-D336-4390-AB29-AD5F80276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338C0C-E0A1-454D-8131-4E9B36871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925B9D-C98E-4189-A855-35ADAD6A3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EEE3-6F39-439B-BEDF-FF717E0AB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C5E070-451A-4EC2-8B92-A89CA4BA6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BA7677-D3F0-4ADD-AC07-7978C2ECB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28AD54-A323-4C41-96C7-B767E5397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74ED98-964E-4D08-969D-040728945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914400" y="1522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4001E3-D1AF-4195-BB7D-BB4DC75D9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DF40E2-91DD-4F44-B47F-9FAA7EFA8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EF8E4F-2A19-4BA0-B68E-AD6E82A20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F7B3B4-68CE-4101-A8E1-201542667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93D69F-B07A-4C5B-B081-7FCB7564B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582C15-56CD-43CC-A0E3-E6BF37DF0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914400" y="1522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DA0D-E3B6-43C7-97FF-FBD9F7452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3A19AD-AA12-409E-A47C-39B555559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F2F6AB-02ED-4DC4-8314-566443498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D8DC30-4391-49D8-9457-E35919084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95FE51-BAED-4326-9E26-2EFED7240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E65A82-1491-45D9-BFBE-FE21010BD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B4B7B0-7F1E-4099-8D39-96837F194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914400" y="1522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B3D112-875A-4757-9C64-6A17D061C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61FFAF-1B84-4619-B604-EC43128A3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F8D29C-520C-4BBE-B9CA-4E9538E94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86CD98-0387-44A4-824E-A8EBFF868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84F8-BDA0-4E7A-BF60-775ADDA40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EC1E2F-BD7D-4B4C-A6BC-A46A3763D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314945-96A3-4A44-A61C-38E34921A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3D4030-FA54-41F3-9543-767F39A5D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F4B3FD-0EAA-4B18-9E4A-568F19FB6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865B35-2442-4504-88B2-D8A9B7D02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20F3E0-2B30-4238-934B-558DF8A9E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294557-8764-4CCC-908F-82B95285E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E3F5A4-B69A-4C15-A639-9D93C9014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914400" y="1522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53F119-5A37-43D7-A0F2-8EEEF0A0D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82C5FF-2012-434F-B9CA-BDF78E497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B43F-C14B-42EE-8D2B-06358E534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67D0E1-DA23-41A4-AD1A-D51DD3DA9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F778AA-D3EB-40C9-8AE5-5C71F36C1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52FF57-F0AC-4A19-AE13-2A2BDA57E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7A0826-9EF4-4F0D-8314-B2FB72656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3C97A9-DAC0-4416-A372-E3141A61D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950BF7-285D-4B3A-A2B8-8A48F754E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80A648-1F68-4BD9-A71E-DF78E6BB8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77EA79-9969-490E-A2A8-4D0191E8E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86B58B-7A95-4BC2-BD3E-23FFD0F60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A2452B-B47E-490C-B2A0-65E16E1AC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A9FA-C522-46B6-9A97-8246737F5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914400" y="1522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907B81-C41A-446D-BE24-97E28F30F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3D519B-0C50-4989-94E7-682390526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800B5C-870E-4365-87DA-DA8CCA585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2DB653-F42D-4B2F-A2EC-F0419677C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490721-AD58-4510-A4AE-A269DA099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52B9F3-CE54-4926-BD0B-829D59A9C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99C9BC-48D7-4020-A395-18BF4758D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Barbara 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70446-D73B-4FB7-BE14-BEB549C10DEC}" type="slidenum"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8" name="Object 2"/>
          <p:cNvGraphicFramePr/>
          <p:nvPr/>
        </p:nvGraphicFramePr>
        <p:xfrm>
          <a:off x="179280" y="115920"/>
          <a:ext cx="468360" cy="576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115920"/>
                    <a:ext cx="46836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Rectangle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Rectangle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Rectangle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50" name="Object 3"/>
          <p:cNvGraphicFramePr/>
          <p:nvPr/>
        </p:nvGraphicFramePr>
        <p:xfrm>
          <a:off x="179280" y="115920"/>
          <a:ext cx="952560" cy="1171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115920"/>
                    <a:ext cx="952560" cy="117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Barbara 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A2263-5234-4E9B-BCE9-574064B8570E}" type="slidenum"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Rectangle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dde9ec"/>
                </a:solidFill>
                <a:latin typeface="Times New Roman"/>
              </a:rPr>
              <a:t>Barbara 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12D17-2AD5-4457-8C3F-919D52390CD7}" type="slidenum">
              <a:rPr b="0" lang="it-IT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Straight Connector 11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Isosceles Triangle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Isosceles Triangle 14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0" name="Object 3"/>
          <p:cNvGraphicFramePr/>
          <p:nvPr/>
        </p:nvGraphicFramePr>
        <p:xfrm>
          <a:off x="179280" y="115920"/>
          <a:ext cx="468360" cy="576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1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115920"/>
                    <a:ext cx="46836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Barbara 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B5D6E-C062-4FA1-8A3F-FCE7217AE98C}" type="slidenum"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Barbara 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16911-F340-45B0-B890-CECCB4AAF72A}" type="slidenum"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Straight Connector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Isosceles Triangle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Barbara 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D83AE-0D5F-4F0C-B1E0-F7A6768A962E}" type="slidenum"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Rectangle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dde9ec"/>
                </a:solidFill>
                <a:latin typeface="Times New Roman"/>
              </a:rPr>
              <a:t>Barbara 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EE551-1321-4378-8E3F-3DB45E5A7E82}" type="slidenum">
              <a:rPr b="0" lang="it-IT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Straight Connector 12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Barbara 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19BED-F090-4771-8E11-2FF686026E36}" type="slidenum"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7.xml"/><Relationship Id="rId8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slideLayout" Target="../slideLayouts/slideLayout37.xml"/><Relationship Id="rId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Bookman Old Style"/>
              </a:rPr>
              <a:t>Petri Net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20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7" name="Segnaposto numero diapositiva 1"/>
          <p:cNvSpPr/>
          <p:nvPr/>
        </p:nvSpPr>
        <p:spPr>
          <a:xfrm>
            <a:off x="1216080" y="635472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160D5-BBE6-49CB-BD5D-706F134E87DF}" type="slidenum">
              <a:rPr b="0" lang="it-IT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Picture 1" descr="bpm-book-weske_098.png"/>
          <p:cNvPicPr/>
          <p:nvPr/>
        </p:nvPicPr>
        <p:blipFill>
          <a:blip r:embed="rId1"/>
          <a:stretch/>
        </p:blipFill>
        <p:spPr>
          <a:xfrm>
            <a:off x="685800" y="1914480"/>
            <a:ext cx="7772400" cy="3029040"/>
          </a:xfrm>
          <a:prstGeom prst="rect">
            <a:avLst/>
          </a:prstGeom>
          <a:ln w="0">
            <a:noFill/>
          </a:ln>
        </p:spPr>
      </p:pic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Sample petri net – single instanc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3" name="Slide Number Placeholder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FA870-FB95-455A-9487-8A43197058F8}" type="slidenum">
              <a:rPr b="0" lang="en-US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Rettangolo 3"/>
          <p:cNvSpPr/>
          <p:nvPr/>
        </p:nvSpPr>
        <p:spPr>
          <a:xfrm>
            <a:off x="900000" y="4076640"/>
            <a:ext cx="6840720" cy="86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CasellaDiTesto 4"/>
          <p:cNvSpPr/>
          <p:nvPr/>
        </p:nvSpPr>
        <p:spPr>
          <a:xfrm>
            <a:off x="2176200" y="4941720"/>
            <a:ext cx="500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Verdana"/>
              </a:rPr>
              <a:t>GIVE THE FORMAL DEFINITION OF THE PETR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Verdana"/>
              </a:rPr>
              <a:t>in term of set T, P, F, pre-set e post-set!!!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Picture 1" descr="bpm-book-weske_099.png"/>
          <p:cNvPicPr/>
          <p:nvPr/>
        </p:nvPicPr>
        <p:blipFill>
          <a:blip r:embed="rId1"/>
          <a:stretch/>
        </p:blipFill>
        <p:spPr>
          <a:xfrm>
            <a:off x="685800" y="1920960"/>
            <a:ext cx="7772400" cy="3016080"/>
          </a:xfrm>
          <a:prstGeom prst="rect">
            <a:avLst/>
          </a:prstGeom>
          <a:ln w="0">
            <a:noFill/>
          </a:ln>
        </p:spPr>
      </p:pic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Sample petri net – multiple instanc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97E91-9E80-4B37-89E3-77A30D5BC876}" type="slidenum">
              <a:rPr b="0" lang="en-US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Rettangolo 6"/>
          <p:cNvSpPr/>
          <p:nvPr/>
        </p:nvSpPr>
        <p:spPr>
          <a:xfrm>
            <a:off x="900000" y="4076640"/>
            <a:ext cx="6840720" cy="86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CasellaDiTesto 7"/>
          <p:cNvSpPr/>
          <p:nvPr/>
        </p:nvSpPr>
        <p:spPr>
          <a:xfrm>
            <a:off x="2298240" y="4941720"/>
            <a:ext cx="476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Verdana"/>
              </a:rPr>
              <a:t>What are the instance active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Verdana"/>
              </a:rPr>
              <a:t>Give the marking for earch active instance!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Picture 1" descr="bpm-book-weske_100.png"/>
          <p:cNvPicPr/>
          <p:nvPr/>
        </p:nvPicPr>
        <p:blipFill>
          <a:blip r:embed="rId1"/>
          <a:stretch/>
        </p:blipFill>
        <p:spPr>
          <a:xfrm>
            <a:off x="2050920" y="1371600"/>
            <a:ext cx="5880240" cy="4800600"/>
          </a:xfrm>
          <a:prstGeom prst="rect">
            <a:avLst/>
          </a:prstGeom>
          <a:ln w="0">
            <a:noFill/>
          </a:ln>
        </p:spPr>
      </p:pic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755280" y="228600"/>
            <a:ext cx="793116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Safe-petri net or 1-bounded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3" name="Slide Number Placeholder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0C7D9-8135-4C8F-A400-8DBE8F6A0240}" type="slidenum">
              <a:rPr b="0" lang="en-US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Picture 1" descr="bpm-book-weske_101.png"/>
          <p:cNvPicPr/>
          <p:nvPr/>
        </p:nvPicPr>
        <p:blipFill>
          <a:blip r:embed="rId1"/>
          <a:stretch/>
        </p:blipFill>
        <p:spPr>
          <a:xfrm>
            <a:off x="685800" y="1932120"/>
            <a:ext cx="7772400" cy="2992320"/>
          </a:xfrm>
          <a:prstGeom prst="rect">
            <a:avLst/>
          </a:prstGeom>
          <a:ln w="0">
            <a:noFill/>
          </a:ln>
        </p:spPr>
      </p:pic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Sample Petri net – multiple instanc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6" name="Slide Number Placeholder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17DAA-5E8D-4E4B-9043-65CC40EB2D9D}" type="slidenum">
              <a:rPr b="0" lang="en-US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Titolo 1"/>
          <p:cNvSpPr/>
          <p:nvPr/>
        </p:nvSpPr>
        <p:spPr>
          <a:xfrm>
            <a:off x="1066680" y="304920"/>
            <a:ext cx="77724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CasellaDiTesto 6"/>
          <p:cNvSpPr/>
          <p:nvPr/>
        </p:nvSpPr>
        <p:spPr>
          <a:xfrm>
            <a:off x="2267640" y="4941720"/>
            <a:ext cx="482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Verdana"/>
              </a:rPr>
              <a:t>GIVE THE MARKING FOR EACH INSTANCE!!!!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1" descr="bpm-book-weske_102.png"/>
          <p:cNvPicPr/>
          <p:nvPr/>
        </p:nvPicPr>
        <p:blipFill>
          <a:blip r:embed="rId1"/>
          <a:stretch/>
        </p:blipFill>
        <p:spPr>
          <a:xfrm>
            <a:off x="685800" y="1584360"/>
            <a:ext cx="7772400" cy="3689280"/>
          </a:xfrm>
          <a:prstGeom prst="rect">
            <a:avLst/>
          </a:prstGeom>
          <a:ln w="0">
            <a:noFill/>
          </a:ln>
        </p:spPr>
      </p:pic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Colured Petri Ne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7200" y="4941720"/>
            <a:ext cx="8229600" cy="121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Gill Sans MT"/>
              </a:rPr>
              <a:t>In the context of colured petri net tokens are typed so that difference instances are always addresse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2" name="Slide Number Placeholder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C0CB6-CDB5-48A3-ABB8-DB04E4EC486E}" type="slidenum">
              <a:rPr b="0" lang="en-US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Exercis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424" name="Segnaposto contenuto 4" descr="semaforo.gif"/>
          <p:cNvPicPr/>
          <p:nvPr/>
        </p:nvPicPr>
        <p:blipFill>
          <a:blip r:embed="rId1"/>
          <a:srcRect l="-57288" t="0" r="-57288" b="0"/>
          <a:stretch/>
        </p:blipFill>
        <p:spPr>
          <a:xfrm>
            <a:off x="457200" y="1219320"/>
            <a:ext cx="8229600" cy="4937040"/>
          </a:xfrm>
          <a:prstGeom prst="rect">
            <a:avLst/>
          </a:prstGeom>
          <a:ln w="0">
            <a:noFill/>
          </a:ln>
        </p:spPr>
      </p:pic>
      <p:sp>
        <p:nvSpPr>
          <p:cNvPr id="425" name="Segnaposto numero diapositiva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487E4-0292-4A8B-B6B8-DB5DE432498F}" type="slidenum">
              <a:rPr b="0" lang="it-IT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CasellaDiTesto 5"/>
          <p:cNvSpPr/>
          <p:nvPr/>
        </p:nvSpPr>
        <p:spPr>
          <a:xfrm>
            <a:off x="324000" y="1844640"/>
            <a:ext cx="266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Gill Sans MT"/>
              </a:rPr>
              <a:t>Modelling using petri net the traffic light scenari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Exercis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428" name="Segnaposto contenuto 4" descr="semaforo.gif"/>
          <p:cNvPicPr/>
          <p:nvPr/>
        </p:nvPicPr>
        <p:blipFill>
          <a:blip r:embed="rId1"/>
          <a:srcRect l="-57288" t="0" r="-57288" b="0"/>
          <a:stretch/>
        </p:blipFill>
        <p:spPr>
          <a:xfrm>
            <a:off x="457200" y="1219320"/>
            <a:ext cx="8229600" cy="4937040"/>
          </a:xfrm>
          <a:prstGeom prst="rect">
            <a:avLst/>
          </a:prstGeom>
          <a:ln w="0">
            <a:noFill/>
          </a:ln>
        </p:spPr>
      </p:pic>
      <p:sp>
        <p:nvSpPr>
          <p:cNvPr id="429" name="Segnaposto numero diapositiva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BCDC3-4B2A-4A0B-BCEB-97E16E932175}" type="slidenum">
              <a:rPr b="0" lang="it-IT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CasellaDiTesto 5"/>
          <p:cNvSpPr/>
          <p:nvPr/>
        </p:nvSpPr>
        <p:spPr>
          <a:xfrm>
            <a:off x="324000" y="1844640"/>
            <a:ext cx="3024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Gill Sans MT"/>
              </a:rPr>
              <a:t>Modelling using petri net two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Gill Sans MT"/>
              </a:rPr>
              <a:t>traffic ligh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omplete the net in such a way that the two lights can never be green at the same tim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1" name="Immagine 2" descr="semaforo.gif"/>
          <p:cNvPicPr/>
          <p:nvPr/>
        </p:nvPicPr>
        <p:blipFill>
          <a:blip r:embed="rId2"/>
          <a:stretch/>
        </p:blipFill>
        <p:spPr>
          <a:xfrm>
            <a:off x="6516720" y="1916280"/>
            <a:ext cx="203184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4"/>
          <p:cNvSpPr/>
          <p:nvPr/>
        </p:nvSpPr>
        <p:spPr>
          <a:xfrm>
            <a:off x="539640" y="1484280"/>
            <a:ext cx="7710480" cy="46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Gill Sans MT"/>
              </a:rPr>
              <a:t>Definition</a:t>
            </a:r>
            <a:r>
              <a:rPr b="0" lang="fr-FR" sz="2000" spc="-1" strike="noStrike">
                <a:solidFill>
                  <a:srgbClr val="000000"/>
                </a:solidFill>
                <a:latin typeface="Gill Sans MT"/>
              </a:rPr>
              <a:t>:  The reachability tree, also called marking graph, of a Petri net (N, M0) is a graph in whi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ill Sans MT"/>
              </a:rPr>
              <a:t>nodes corresponds to reachable marking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ill Sans MT"/>
              </a:rPr>
              <a:t>arcs correpond to feasible transition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Gill Sans MT"/>
              </a:rPr>
              <a:t>Remark</a:t>
            </a:r>
            <a:r>
              <a:rPr b="0" lang="fr-FR" sz="2000" spc="-1" strike="noStrike">
                <a:solidFill>
                  <a:srgbClr val="000000"/>
                </a:solidFill>
                <a:latin typeface="Gill Sans MT"/>
              </a:rPr>
              <a:t>: the reachability tree of an unbounded PN is unlimite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433" name="Object 2"/>
          <p:cNvGraphicFramePr/>
          <p:nvPr/>
        </p:nvGraphicFramePr>
        <p:xfrm>
          <a:off x="755640" y="3500280"/>
          <a:ext cx="4362480" cy="63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3500280"/>
                    <a:ext cx="436248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5" name="Object 3"/>
          <p:cNvGraphicFramePr/>
          <p:nvPr/>
        </p:nvGraphicFramePr>
        <p:xfrm>
          <a:off x="684360" y="4292640"/>
          <a:ext cx="4038480" cy="1200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4360" y="4292640"/>
                    <a:ext cx="4038480" cy="12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7" name="Object 4"/>
          <p:cNvGraphicFramePr/>
          <p:nvPr/>
        </p:nvGraphicFramePr>
        <p:xfrm>
          <a:off x="611280" y="5661000"/>
          <a:ext cx="5848200" cy="723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38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1280" y="5661000"/>
                    <a:ext cx="584820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9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Rectangle 5"/>
          <p:cNvSpPr/>
          <p:nvPr/>
        </p:nvSpPr>
        <p:spPr>
          <a:xfrm>
            <a:off x="0" y="1095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Rectangle 6"/>
          <p:cNvSpPr/>
          <p:nvPr/>
        </p:nvSpPr>
        <p:spPr>
          <a:xfrm>
            <a:off x="0" y="27525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755280" y="228600"/>
            <a:ext cx="793116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Reachability tre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4"/>
          <p:cNvSpPr/>
          <p:nvPr/>
        </p:nvSpPr>
        <p:spPr>
          <a:xfrm>
            <a:off x="539640" y="1484280"/>
            <a:ext cx="81360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Gill Sans MT"/>
              </a:rPr>
              <a:t>Symbol "w"</a:t>
            </a:r>
            <a:r>
              <a:rPr b="0" lang="fr-FR" sz="2000" spc="-1" strike="noStrike">
                <a:solidFill>
                  <a:srgbClr val="000000"/>
                </a:solidFill>
                <a:latin typeface="Gill Sans MT"/>
              </a:rPr>
              <a:t> implying « as great as possible » with the following propertie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ill Sans MT"/>
              </a:rPr>
              <a:t>w &gt; n, w ± n = w, for all integer n and w ≥ w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ill Sans MT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755280" y="228600"/>
            <a:ext cx="793116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overability tre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5" name="Espace réservé du pied de page 5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C9463-0794-42EB-9B4B-F0670ED332EA}" type="slidenum">
              <a:rPr b="0" lang="en-US" sz="1400" spc="-1" strike="noStrike">
                <a:solidFill>
                  <a:srgbClr val="000000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Rectangle 4"/>
          <p:cNvSpPr/>
          <p:nvPr/>
        </p:nvSpPr>
        <p:spPr>
          <a:xfrm>
            <a:off x="0" y="442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Rectangle 5"/>
          <p:cNvSpPr/>
          <p:nvPr/>
        </p:nvSpPr>
        <p:spPr>
          <a:xfrm>
            <a:off x="0" y="11397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Rectangle 6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449" name="Object 5"/>
          <p:cNvGraphicFramePr/>
          <p:nvPr/>
        </p:nvGraphicFramePr>
        <p:xfrm>
          <a:off x="324000" y="2205000"/>
          <a:ext cx="2143080" cy="116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2205000"/>
                    <a:ext cx="2143080" cy="116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1" name="Rectangle 8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452" name="Object 7"/>
          <p:cNvGraphicFramePr/>
          <p:nvPr/>
        </p:nvGraphicFramePr>
        <p:xfrm>
          <a:off x="3564000" y="2565360"/>
          <a:ext cx="1914480" cy="1068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3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64000" y="2565360"/>
                    <a:ext cx="1914480" cy="106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4" name="ZoneTexte 16"/>
          <p:cNvSpPr/>
          <p:nvPr/>
        </p:nvSpPr>
        <p:spPr>
          <a:xfrm>
            <a:off x="5292720" y="2421000"/>
            <a:ext cx="352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ill Sans MT"/>
              </a:rPr>
              <a:t>M1 covers M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81080" indent="-181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ill Sans MT"/>
              </a:rPr>
              <a:t>Repeat t1 leads  to w tokens in p2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81080" indent="-181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ill Sans MT"/>
              </a:rPr>
              <a:t>Replace M1 by [0, w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455" name="Object 10"/>
          <p:cNvGraphicFramePr/>
          <p:nvPr/>
        </p:nvGraphicFramePr>
        <p:xfrm>
          <a:off x="3564000" y="3573360"/>
          <a:ext cx="2827440" cy="2571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56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64000" y="3573360"/>
                    <a:ext cx="2827440" cy="257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7" name="ZoneTexte 18"/>
          <p:cNvSpPr/>
          <p:nvPr/>
        </p:nvSpPr>
        <p:spPr>
          <a:xfrm>
            <a:off x="2627280" y="270828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ill Sans MT"/>
              </a:rPr>
              <a:t>Step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ZoneTexte 19"/>
          <p:cNvSpPr/>
          <p:nvPr/>
        </p:nvSpPr>
        <p:spPr>
          <a:xfrm>
            <a:off x="2627280" y="407664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ill Sans MT"/>
              </a:rPr>
              <a:t>Step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ZoneTexte 20"/>
          <p:cNvSpPr/>
          <p:nvPr/>
        </p:nvSpPr>
        <p:spPr>
          <a:xfrm>
            <a:off x="2484360" y="558972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ill Sans MT"/>
              </a:rPr>
              <a:t>Step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Exercis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Draw the reachability graph of the ne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2" name="Segnaposto numero diapositiva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FDE08-1C72-4961-AE09-DE0C221D09F2}" type="slidenum">
              <a:rPr b="0" lang="it-IT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3" name="Immagine 5" descr="semaforo.gif"/>
          <p:cNvPicPr/>
          <p:nvPr/>
        </p:nvPicPr>
        <p:blipFill>
          <a:blip r:embed="rId1"/>
          <a:stretch/>
        </p:blipFill>
        <p:spPr>
          <a:xfrm>
            <a:off x="6516720" y="1916280"/>
            <a:ext cx="2031840" cy="2616120"/>
          </a:xfrm>
          <a:prstGeom prst="rect">
            <a:avLst/>
          </a:prstGeom>
          <a:ln w="0">
            <a:noFill/>
          </a:ln>
        </p:spPr>
      </p:pic>
      <p:pic>
        <p:nvPicPr>
          <p:cNvPr id="464" name="Immagine 6" descr="semaforo.gif"/>
          <p:cNvPicPr/>
          <p:nvPr/>
        </p:nvPicPr>
        <p:blipFill>
          <a:blip r:embed="rId2"/>
          <a:stretch/>
        </p:blipFill>
        <p:spPr>
          <a:xfrm>
            <a:off x="4067280" y="2997360"/>
            <a:ext cx="203184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Carl Adam Pet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7200" y="1219320"/>
            <a:ext cx="418608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ntroduced in 1962 (Petri’s PhD thesis)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60’s and 70’s main focus on theory 80‘s focus on tools and applications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Now applied in several field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uccess due to simple and clean graphical and conceptual representatio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0" name="Segnaposto numero diapositiva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A3494-0A28-4E3A-AC44-39AD8E638D5A}" type="slidenum">
              <a:rPr b="0" lang="it-IT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1" name="Immagine 4" descr="Carl_adam_petri.jpg"/>
          <p:cNvPicPr/>
          <p:nvPr/>
        </p:nvPicPr>
        <p:blipFill>
          <a:blip r:embed="rId1"/>
          <a:stretch/>
        </p:blipFill>
        <p:spPr>
          <a:xfrm>
            <a:off x="5580000" y="1916280"/>
            <a:ext cx="2705040" cy="3225600"/>
          </a:xfrm>
          <a:prstGeom prst="rect">
            <a:avLst/>
          </a:prstGeom>
          <a:ln w="0">
            <a:noFill/>
          </a:ln>
        </p:spPr>
      </p:pic>
      <p:sp>
        <p:nvSpPr>
          <p:cNvPr id="372" name="CasellaDiTesto 5"/>
          <p:cNvSpPr/>
          <p:nvPr/>
        </p:nvSpPr>
        <p:spPr>
          <a:xfrm>
            <a:off x="6012000" y="551664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(1926 – 2010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Bookman Old Style"/>
              </a:rPr>
              <a:t>Mapping from BPMN to Petri Net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20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Mapping a Need for Verification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Business Processes are typically defined by business experts which ask for graphical and user-friendly notation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ill Sans MT"/>
              </a:rPr>
              <a:t>Most notations such as BPMN 2.0 used typically lack precisely defined semantics limiting the possibility of analysi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ill Sans MT"/>
              </a:rPr>
              <a:t>In order to formally analysis Business Process we need to derive a formal model  of the Business Process being verified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64653"/>
                </a:solidFill>
                <a:latin typeface="Gill Sans MT"/>
              </a:rPr>
              <a:t>From BPMN 2.0 to Petri Net</a:t>
            </a: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64653"/>
                </a:solidFill>
                <a:latin typeface="Gill Sans MT"/>
              </a:rPr>
              <a:t>From BPMN 2.0 to Process Algebra</a:t>
            </a: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64653"/>
                </a:solidFill>
                <a:latin typeface="Gill Sans MT"/>
                <a:ea typeface="ＭＳ Ｐゴシック"/>
              </a:rPr>
              <a:t>From ... To … </a:t>
            </a: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  <p:sp>
        <p:nvSpPr>
          <p:cNvPr id="469" name="Segnaposto numero diapositiva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747BF-20AA-4DE7-945F-EE645F168B36}" type="slidenum">
              <a:rPr b="0" lang="it-IT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From BPMN 2.0 to Petri Net (I)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457200" y="1600200"/>
            <a:ext cx="8105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  <a:ea typeface="Gill Sans"/>
              </a:rPr>
              <a:t>Raedts et. al, 2007 - </a:t>
            </a:r>
            <a:r>
              <a:rPr b="0" i="1" lang="en-US" sz="1600" spc="-1" strike="noStrike">
                <a:solidFill>
                  <a:srgbClr val="000000"/>
                </a:solidFill>
                <a:latin typeface="Gill Sans"/>
                <a:ea typeface="Gill Sans"/>
              </a:rPr>
              <a:t>Raedts, I., Petkovic, M., Usenko, Y. S., van der Werf, J. M., Groote, J. F., and Somers, L. J. (2007). Transformation of BPMN models for Behaviour Analysi, In MSVVEIS, pages 126-137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  <a:ea typeface="Gill Sans"/>
              </a:rPr>
              <a:t>It converts BPMN 2.0 to Petri Nets extended with inhibitor and reset arcs</a:t>
            </a:r>
            <a:endParaRPr b="0" lang="en-US" sz="16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  <a:ea typeface="Gill Sans"/>
              </a:rPr>
              <a:t>The proposed mapping is not comprehensive enough in order to clearly address all the BPMN 2.0 elements (i.e. messages, sub-process and loop activity are not included) </a:t>
            </a:r>
            <a:endParaRPr b="0" lang="en-US" sz="16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  <a:ea typeface="Gill Sans"/>
              </a:rPr>
              <a:t>Awad, 2010 - </a:t>
            </a:r>
            <a:r>
              <a:rPr b="0" i="1" lang="en-US" sz="1600" spc="-1" strike="noStrike">
                <a:solidFill>
                  <a:srgbClr val="000000"/>
                </a:solidFill>
                <a:latin typeface="Gill Sans"/>
                <a:ea typeface="Gill Sans"/>
              </a:rPr>
              <a:t>Awad, A., Decker, G., and Lohmann, N. (2010). Diagnosing and repairing data anomalies in process models. BPM Workshops, vol. 43 of Lecture Notes in Business Information Processing, pp. 5-16. Springer.</a:t>
            </a:r>
            <a:endParaRPr b="0" lang="en-US" sz="16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  <a:ea typeface="Gill Sans"/>
              </a:rPr>
              <a:t>It formalizes the basic data object together with the more traditional control flow elements </a:t>
            </a:r>
            <a:endParaRPr b="0" lang="en-US" sz="16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  <a:ea typeface="Gill Sans"/>
              </a:rPr>
              <a:t>It is missed a more general and complex mapping on the BPMN 2.0 elements such as sub-process, messages, etc.</a:t>
            </a:r>
            <a:endParaRPr b="0" lang="en-US" sz="16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From BPMN 2.0 to Petri Net (II)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324000" y="119700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326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Gill Sans"/>
                <a:ea typeface="Gill Sans"/>
              </a:rPr>
              <a:t>Dijkman, R. M., Dumas, M., and Ouyang, C. (2008). Semantics and analysis of business process models in BPMN. Inf. Softw.  Technol., 50(12):1281-1294.</a:t>
            </a: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326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Up to our review it the most complete methodology to transform BPMN 2.0 models into Petri </a:t>
            </a:r>
            <a:endParaRPr b="0" lang="en-US" sz="1300" spc="-1" strike="noStrike">
              <a:solidFill>
                <a:srgbClr val="464653"/>
              </a:solidFill>
              <a:latin typeface="Gill Sans MT"/>
            </a:endParaRPr>
          </a:p>
          <a:p>
            <a:pPr lvl="1" marL="743040" indent="-285840">
              <a:spcBef>
                <a:spcPts val="326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Gill Sans MT"/>
              </a:rPr>
              <a:t>It starts from the basic elements and introduces some more details regarding multiple instances, sub-process and exception handling</a:t>
            </a:r>
            <a:endParaRPr b="0" lang="en-US" sz="1300" spc="-1" strike="noStrike">
              <a:solidFill>
                <a:srgbClr val="464653"/>
              </a:solidFill>
              <a:latin typeface="Gill Sans MT"/>
            </a:endParaRPr>
          </a:p>
          <a:p>
            <a:pPr lvl="1" marL="743040" indent="-285840">
              <a:spcBef>
                <a:spcPts val="326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Gill Sans MT"/>
              </a:rPr>
              <a:t>It can be easy extended  to the whole specification</a:t>
            </a:r>
            <a:endParaRPr b="0" lang="en-US" sz="13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4" name="Segnaposto numero diapositiva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3AE07-0718-481E-968F-7402A97315A6}" type="slidenum">
              <a:rPr b="0" lang="it-IT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75" name="Immagine 4" descr="SelectedMapping.png"/>
          <p:cNvPicPr/>
          <p:nvPr/>
        </p:nvPicPr>
        <p:blipFill>
          <a:blip r:embed="rId1"/>
          <a:stretch/>
        </p:blipFill>
        <p:spPr>
          <a:xfrm>
            <a:off x="2050920" y="2924280"/>
            <a:ext cx="4764240" cy="31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Macro expansions for repeated activities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477" name="Segnaposto contenuto 4" descr="Schermata 2015-01-13 alle 23.01.27.png"/>
          <p:cNvPicPr/>
          <p:nvPr/>
        </p:nvPicPr>
        <p:blipFill>
          <a:blip r:embed="rId1"/>
          <a:srcRect l="0" t="-108685" r="0" b="-108685"/>
          <a:stretch/>
        </p:blipFill>
        <p:spPr>
          <a:xfrm>
            <a:off x="457200" y="1219320"/>
            <a:ext cx="8229600" cy="4937040"/>
          </a:xfrm>
          <a:prstGeom prst="rect">
            <a:avLst/>
          </a:prstGeom>
          <a:ln w="0">
            <a:noFill/>
          </a:ln>
        </p:spPr>
      </p:pic>
      <p:sp>
        <p:nvSpPr>
          <p:cNvPr id="478" name="Segnaposto numero diapositiva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89C98-6B71-409F-A758-99098F9657D5}" type="slidenum">
              <a:rPr b="0" lang="it-IT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64653"/>
                </a:solidFill>
                <a:latin typeface="Bookman Old Style"/>
              </a:rPr>
              <a:t>Macro expansion for a multi-instance activity where n is known at design time</a:t>
            </a:r>
            <a:endParaRPr b="0" lang="en-US" sz="28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480" name="Segnaposto contenuto 4" descr="Schermata 2015-01-13 alle 23.01.34.png"/>
          <p:cNvPicPr/>
          <p:nvPr/>
        </p:nvPicPr>
        <p:blipFill>
          <a:blip r:embed="rId1"/>
          <a:srcRect l="0" t="-47673" r="0" b="-47673"/>
          <a:stretch/>
        </p:blipFill>
        <p:spPr>
          <a:xfrm>
            <a:off x="457200" y="1219320"/>
            <a:ext cx="8229600" cy="4937040"/>
          </a:xfrm>
          <a:prstGeom prst="rect">
            <a:avLst/>
          </a:prstGeom>
          <a:ln w="0">
            <a:noFill/>
          </a:ln>
        </p:spPr>
      </p:pic>
      <p:sp>
        <p:nvSpPr>
          <p:cNvPr id="481" name="Segnaposto numero diapositiva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4F17E-0F3F-47C0-99BE-C50F81E3F969}" type="slidenum">
              <a:rPr b="0" lang="it-IT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Mapping of a task with an exception flow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483" name="Segnaposto contenuto 4" descr="Schermata 2015-01-13 alle 22.59.40.png"/>
          <p:cNvPicPr/>
          <p:nvPr/>
        </p:nvPicPr>
        <p:blipFill>
          <a:blip r:embed="rId1"/>
          <a:srcRect l="0" t="-115496" r="0" b="-115496"/>
          <a:stretch/>
        </p:blipFill>
        <p:spPr>
          <a:xfrm>
            <a:off x="457200" y="1219320"/>
            <a:ext cx="8229600" cy="4937040"/>
          </a:xfrm>
          <a:prstGeom prst="rect">
            <a:avLst/>
          </a:prstGeom>
          <a:ln w="0">
            <a:noFill/>
          </a:ln>
        </p:spPr>
      </p:pic>
      <p:sp>
        <p:nvSpPr>
          <p:cNvPr id="484" name="Segnaposto numero diapositiva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65BC1-9581-49F1-BA5B-C69466505F52}" type="slidenum">
              <a:rPr b="0" lang="it-IT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Mapping of message flows between BPMN processe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486" name="Segnaposto contenuto 4" descr="Schermata 2015-01-13 alle 22.58.03.png"/>
          <p:cNvPicPr/>
          <p:nvPr/>
        </p:nvPicPr>
        <p:blipFill>
          <a:blip r:embed="rId1"/>
          <a:srcRect l="0" t="-11046" r="0" b="-11046"/>
          <a:stretch/>
        </p:blipFill>
        <p:spPr>
          <a:xfrm>
            <a:off x="457200" y="1219320"/>
            <a:ext cx="8229600" cy="4937040"/>
          </a:xfrm>
          <a:prstGeom prst="rect">
            <a:avLst/>
          </a:prstGeom>
          <a:ln w="0">
            <a:noFill/>
          </a:ln>
        </p:spPr>
      </p:pic>
      <p:sp>
        <p:nvSpPr>
          <p:cNvPr id="487" name="Segnaposto numero diapositiva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41C58-877B-41F7-B2AD-51FCF2FED182}" type="slidenum">
              <a:rPr b="0" lang="it-IT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Basic Example of Mapping BP into Petri Ne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489" name="Segnaposto contenuto 4" descr="mapping1.jpg"/>
          <p:cNvPicPr/>
          <p:nvPr/>
        </p:nvPicPr>
        <p:blipFill>
          <a:blip r:embed="rId1"/>
          <a:srcRect l="-12496" t="0" r="-12496" b="0"/>
          <a:stretch/>
        </p:blipFill>
        <p:spPr>
          <a:xfrm>
            <a:off x="457200" y="1219320"/>
            <a:ext cx="8229600" cy="4937040"/>
          </a:xfrm>
          <a:prstGeom prst="rect">
            <a:avLst/>
          </a:prstGeom>
          <a:ln w="0">
            <a:noFill/>
          </a:ln>
        </p:spPr>
      </p:pic>
      <p:sp>
        <p:nvSpPr>
          <p:cNvPr id="490" name="Segnaposto numero diapositiva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134CD-3643-4942-BD63-938F277DC937}" type="slidenum">
              <a:rPr b="0" lang="it-IT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Basic Example of Mapping BP into Petri Net (step 1 participant B)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492" name="Segnaposto contenuto 4" descr="step-ab.png"/>
          <p:cNvPicPr/>
          <p:nvPr/>
        </p:nvPicPr>
        <p:blipFill>
          <a:blip r:embed="rId1"/>
          <a:srcRect l="-8028" t="0" r="-8028" b="0"/>
          <a:stretch/>
        </p:blipFill>
        <p:spPr>
          <a:xfrm>
            <a:off x="457200" y="1219320"/>
            <a:ext cx="8229600" cy="4937040"/>
          </a:xfrm>
          <a:prstGeom prst="rect">
            <a:avLst/>
          </a:prstGeom>
          <a:ln w="0">
            <a:noFill/>
          </a:ln>
        </p:spPr>
      </p:pic>
      <p:sp>
        <p:nvSpPr>
          <p:cNvPr id="493" name="Segnaposto numero diapositiva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041D0-E13E-4AC2-BFED-5AF65A16A66F}" type="slidenum">
              <a:rPr b="0" lang="it-IT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Formal and abstract business process specification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Formal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: the semantics of process becomes well defined and not ambiguou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Abstract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: execution environment is disregarded (Remind about separation of concerns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etri Net can be used to model dynamic system with a static structure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The static structure is represented by a Petri Net (process level)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The dynamic behavior is capture by the token play of the Petri Net (instance level)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</p:txBody>
      </p:sp>
      <p:sp>
        <p:nvSpPr>
          <p:cNvPr id="375" name="Segnaposto numero diapositiva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F48A8-2DFA-4AD3-B8DB-AC8558965389}" type="slidenum">
              <a:rPr b="0" lang="it-IT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Basic Example of Mapping BP into Petri Net (step 2 participant B)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495" name="Segnaposto contenuto 4" descr="step-cd.jpg"/>
          <p:cNvPicPr/>
          <p:nvPr/>
        </p:nvPicPr>
        <p:blipFill>
          <a:blip r:embed="rId1"/>
          <a:srcRect l="-12496" t="0" r="-12496" b="0"/>
          <a:stretch/>
        </p:blipFill>
        <p:spPr>
          <a:xfrm>
            <a:off x="457200" y="1219320"/>
            <a:ext cx="8229600" cy="4937040"/>
          </a:xfrm>
          <a:prstGeom prst="rect">
            <a:avLst/>
          </a:prstGeom>
          <a:ln w="0">
            <a:noFill/>
          </a:ln>
        </p:spPr>
      </p:pic>
      <p:sp>
        <p:nvSpPr>
          <p:cNvPr id="496" name="Segnaposto numero diapositiva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21962-DCC6-4531-9FCC-368A2E5C49CD}" type="slidenum">
              <a:rPr b="0" lang="it-IT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Basic Example of Mapping BP into Petri Net (step 3 participant B)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498" name="Segnaposto contenuto 4" descr="step-e.png"/>
          <p:cNvPicPr/>
          <p:nvPr/>
        </p:nvPicPr>
        <p:blipFill>
          <a:blip r:embed="rId1"/>
          <a:srcRect l="0" t="-17903" r="0" b="-17903"/>
          <a:stretch/>
        </p:blipFill>
        <p:spPr>
          <a:xfrm>
            <a:off x="457200" y="1219320"/>
            <a:ext cx="8229600" cy="4937040"/>
          </a:xfrm>
          <a:prstGeom prst="rect">
            <a:avLst/>
          </a:prstGeom>
          <a:ln w="0">
            <a:noFill/>
          </a:ln>
        </p:spPr>
      </p:pic>
      <p:sp>
        <p:nvSpPr>
          <p:cNvPr id="499" name="Segnaposto numero diapositiva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7D5FA-D052-451C-AC02-A30757145609}" type="slidenum">
              <a:rPr b="0" lang="it-IT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Basic Example of Mapping BP into Petri Net (participant B)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501" name="Segnaposto contenuto 4" descr="MappingB.png"/>
          <p:cNvPicPr/>
          <p:nvPr/>
        </p:nvPicPr>
        <p:blipFill>
          <a:blip r:embed="rId1"/>
          <a:srcRect l="0" t="-15509" r="0" b="-15509"/>
          <a:stretch/>
        </p:blipFill>
        <p:spPr>
          <a:xfrm>
            <a:off x="457200" y="1219320"/>
            <a:ext cx="8229600" cy="4937040"/>
          </a:xfrm>
          <a:prstGeom prst="rect">
            <a:avLst/>
          </a:prstGeom>
          <a:ln w="0">
            <a:noFill/>
          </a:ln>
        </p:spPr>
      </p:pic>
      <p:sp>
        <p:nvSpPr>
          <p:cNvPr id="502" name="Segnaposto numero diapositiva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4DA58-2AB8-4219-B8FD-C8533A99F937}" type="slidenum">
              <a:rPr b="0" lang="it-IT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Basic Example of Mapping BP into Petri Ne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504" name="Segnaposto contenuto 4" descr="mapping2.jpg"/>
          <p:cNvPicPr/>
          <p:nvPr/>
        </p:nvPicPr>
        <p:blipFill>
          <a:blip r:embed="rId1"/>
          <a:srcRect l="-12496" t="0" r="-12496" b="0"/>
          <a:stretch/>
        </p:blipFill>
        <p:spPr>
          <a:xfrm>
            <a:off x="457200" y="1219320"/>
            <a:ext cx="8229600" cy="4937040"/>
          </a:xfrm>
          <a:prstGeom prst="rect">
            <a:avLst/>
          </a:prstGeom>
          <a:ln w="0">
            <a:noFill/>
          </a:ln>
        </p:spPr>
      </p:pic>
      <p:sp>
        <p:nvSpPr>
          <p:cNvPr id="505" name="Segnaposto numero diapositiva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30728-3509-4BEE-9086-02254800340B}" type="slidenum">
              <a:rPr b="0" lang="it-IT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26560" y="228600"/>
            <a:ext cx="785988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Basic Element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6840" y="1285560"/>
            <a:ext cx="40402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b8cd"/>
                </a:solidFill>
                <a:latin typeface="Gill Sans MT"/>
              </a:rPr>
              <a:t>Plac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404172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b8cd"/>
                </a:solidFill>
                <a:latin typeface="Gill Sans MT"/>
              </a:rPr>
              <a:t>Transi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57200" y="2133720"/>
            <a:ext cx="40384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 place can stand for a state a medium a buffer a condition a repository of resources a type ..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648320" y="2133720"/>
            <a:ext cx="40384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 transition can stand for an event an operation a transformation a transportation a task an activity ..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1" name="Segnaposto numero diapositiva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31A69-DA15-4A36-A9F7-99EA4418BC9E}" type="slidenum">
              <a:rPr b="0" lang="it-IT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Segnaposto contenuto 8"/>
          <p:cNvSpPr/>
          <p:nvPr/>
        </p:nvSpPr>
        <p:spPr>
          <a:xfrm>
            <a:off x="468360" y="5084640"/>
            <a:ext cx="8370720" cy="10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 token can stand for a physical object a piece of data a resource an activation mark a message a document a case ..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Segnaposto testo 7"/>
          <p:cNvSpPr/>
          <p:nvPr/>
        </p:nvSpPr>
        <p:spPr>
          <a:xfrm>
            <a:off x="2484360" y="4437000"/>
            <a:ext cx="4041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b8cd"/>
                </a:solidFill>
                <a:latin typeface="Gill Sans MT"/>
              </a:rPr>
              <a:t>Tok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Petri Ne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Gill Sans MT"/>
              </a:rPr>
              <a:t>A Petri Net is a tuple (P, T, F, M</a:t>
            </a:r>
            <a:r>
              <a:rPr b="0" lang="it-IT" sz="2600" spc="-1" strike="noStrike" baseline="-25000">
                <a:solidFill>
                  <a:srgbClr val="000000"/>
                </a:solidFill>
                <a:latin typeface="Gill Sans MT"/>
              </a:rPr>
              <a:t>0</a:t>
            </a:r>
            <a:r>
              <a:rPr b="0" lang="it-IT" sz="2600" spc="-1" strike="noStrike">
                <a:solidFill>
                  <a:srgbClr val="000000"/>
                </a:solidFill>
                <a:latin typeface="Gill Sans MT"/>
              </a:rPr>
              <a:t>) wher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64653"/>
                </a:solidFill>
                <a:latin typeface="Gill Sans MT"/>
              </a:rPr>
              <a:t>P is a finite set of places;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64653"/>
                </a:solidFill>
                <a:latin typeface="Gill Sans MT"/>
              </a:rPr>
              <a:t>T is a finite set of transitions;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64653"/>
                </a:solidFill>
                <a:latin typeface="Gill Sans MT"/>
              </a:rPr>
              <a:t>F </a:t>
            </a:r>
            <a:r>
              <a:rPr b="0" lang="it-IT" sz="2300" spc="-1" strike="noStrike">
                <a:solidFill>
                  <a:srgbClr val="464653"/>
                </a:solidFill>
                <a:latin typeface="Gill Sans MT"/>
                <a:ea typeface="ＭＳ Ｐゴシック"/>
              </a:rPr>
              <a:t>⊆ (P X T) U (T X U) is a flow relation; 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64653"/>
                </a:solidFill>
                <a:latin typeface="Gill Sans MT"/>
              </a:rPr>
              <a:t>M : P </a:t>
            </a:r>
            <a:r>
              <a:rPr b="0" lang="it-IT" sz="2300" spc="-1" strike="noStrike">
                <a:solidFill>
                  <a:srgbClr val="464653"/>
                </a:solidFill>
                <a:latin typeface="Gill Sans MT"/>
                <a:ea typeface="ＭＳ Ｐゴシック"/>
              </a:rPr>
              <a:t>→ N is the initial marking</a:t>
            </a:r>
            <a:r>
              <a:rPr b="0" lang="it-IT" sz="2300" spc="-1" strike="noStrike">
                <a:solidFill>
                  <a:srgbClr val="464653"/>
                </a:solidFill>
                <a:latin typeface="Gill Sans MT"/>
              </a:rPr>
              <a:t>  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</p:txBody>
      </p:sp>
      <p:sp>
        <p:nvSpPr>
          <p:cNvPr id="386" name="Segnaposto numero diapositiva 6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8823B-A140-446E-9C6F-DC37AFCBA0C1}" type="slidenum">
              <a:rPr b="0" lang="it-IT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Marking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Gill Sans MT"/>
              </a:rPr>
              <a:t>A Marking M: P → N denotes the number of tokens in each plac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Gill Sans MT"/>
              </a:rPr>
              <a:t>The marking of a Petri net represents its stat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600" spc="-1" strike="noStrike">
                <a:solidFill>
                  <a:srgbClr val="000000"/>
                </a:solidFill>
                <a:latin typeface="Gill Sans MT"/>
              </a:rPr>
              <a:t>M (a) = 0</a:t>
            </a:r>
            <a:r>
              <a:rPr b="0" lang="it-IT" sz="2600" spc="-1" strike="noStrike">
                <a:solidFill>
                  <a:srgbClr val="000000"/>
                </a:solidFill>
                <a:latin typeface="Gill Sans MT"/>
              </a:rPr>
              <a:t> denotes the absence of tokens in a place </a:t>
            </a:r>
            <a:r>
              <a:rPr b="0" i="1" lang="it-IT" sz="2600" spc="-1" strike="noStrike">
                <a:solidFill>
                  <a:srgbClr val="000000"/>
                </a:solidFill>
                <a:latin typeface="Gill Sans MT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9" name="Segnaposto numero diapositiva 2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941C8-9E3C-4E81-930D-1CFB9DC6B2EE}" type="slidenum">
              <a:rPr b="0" lang="it-IT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Firing a trasition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Gill Sans MT"/>
              </a:rPr>
              <a:t>Let (P,  T,  F) be a Petri net and M a marking. The firing of a transition is represented by a state change of the Petri ne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300" spc="-1" strike="noStrike">
                <a:solidFill>
                  <a:srgbClr val="464653"/>
                </a:solidFill>
                <a:latin typeface="Gill Sans MT"/>
              </a:rPr>
              <a:t>M </a:t>
            </a:r>
            <a:r>
              <a:rPr b="0" lang="it-IT" sz="2300" spc="-1" strike="noStrike">
                <a:solidFill>
                  <a:srgbClr val="464653"/>
                </a:solidFill>
                <a:latin typeface="Gill Sans MT"/>
                <a:ea typeface="ＭＳ Ｐゴシック"/>
              </a:rPr>
              <a:t>→ M’ indicates that by firing t, the state of the Petri net changes from M to M’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300" spc="-1" strike="noStrike">
                <a:solidFill>
                  <a:srgbClr val="464653"/>
                </a:solidFill>
                <a:latin typeface="Gill Sans MT"/>
                <a:ea typeface="ＭＳ Ｐゴシック"/>
              </a:rPr>
              <a:t>M </a:t>
            </a:r>
            <a:r>
              <a:rPr b="0" lang="it-IT" sz="2300" spc="-1" strike="noStrike">
                <a:solidFill>
                  <a:srgbClr val="464653"/>
                </a:solidFill>
                <a:latin typeface="Gill Sans MT"/>
                <a:ea typeface="ＭＳ Ｐゴシック"/>
              </a:rPr>
              <a:t>→ M’ indicates that there is a transition t such that M →M’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300" spc="-1" strike="noStrike">
                <a:solidFill>
                  <a:srgbClr val="464653"/>
                </a:solidFill>
                <a:latin typeface="Gill Sans MT"/>
                <a:ea typeface="ＭＳ Ｐゴシック"/>
              </a:rPr>
              <a:t>M</a:t>
            </a:r>
            <a:r>
              <a:rPr b="0" i="1" lang="it-IT" sz="2300" spc="-1" strike="noStrike" baseline="-25000">
                <a:solidFill>
                  <a:srgbClr val="464653"/>
                </a:solidFill>
                <a:latin typeface="Gill Sans MT"/>
                <a:ea typeface="ＭＳ Ｐゴシック"/>
              </a:rPr>
              <a:t>1</a:t>
            </a:r>
            <a:r>
              <a:rPr b="0" i="1" lang="it-IT" sz="2300" spc="-1" strike="noStrike">
                <a:solidFill>
                  <a:srgbClr val="464653"/>
                </a:solidFill>
                <a:latin typeface="Gill Sans MT"/>
                <a:ea typeface="ＭＳ Ｐゴシック"/>
              </a:rPr>
              <a:t> </a:t>
            </a:r>
            <a:r>
              <a:rPr b="0" lang="it-IT" sz="2300" spc="-1" strike="noStrike">
                <a:solidFill>
                  <a:srgbClr val="464653"/>
                </a:solidFill>
                <a:latin typeface="Gill Sans MT"/>
                <a:ea typeface="ＭＳ Ｐゴシック"/>
              </a:rPr>
              <a:t>→ M</a:t>
            </a:r>
            <a:r>
              <a:rPr b="0" lang="it-IT" sz="2300" spc="-1" strike="noStrike" baseline="-25000">
                <a:solidFill>
                  <a:srgbClr val="464653"/>
                </a:solidFill>
                <a:latin typeface="Gill Sans MT"/>
                <a:ea typeface="ＭＳ Ｐゴシック"/>
              </a:rPr>
              <a:t>n</a:t>
            </a:r>
            <a:r>
              <a:rPr b="0" lang="it-IT" sz="2300" spc="-1" strike="noStrike">
                <a:solidFill>
                  <a:srgbClr val="464653"/>
                </a:solidFill>
                <a:latin typeface="Gill Sans MT"/>
                <a:ea typeface="ＭＳ Ｐゴシック"/>
              </a:rPr>
              <a:t> means that there is a sequence of transition           </a:t>
            </a:r>
            <a:r>
              <a:rPr b="0" i="1" lang="it-IT" sz="2300" spc="-1" strike="noStrike">
                <a:solidFill>
                  <a:srgbClr val="464653"/>
                </a:solidFill>
                <a:latin typeface="Gill Sans MT"/>
              </a:rPr>
              <a:t> t</a:t>
            </a:r>
            <a:r>
              <a:rPr b="0" i="1" lang="it-IT" sz="2300" spc="-1" strike="noStrike" baseline="-25000">
                <a:solidFill>
                  <a:srgbClr val="464653"/>
                </a:solidFill>
                <a:latin typeface="Gill Sans MT"/>
              </a:rPr>
              <a:t>1</a:t>
            </a:r>
            <a:r>
              <a:rPr b="0" i="1" lang="it-IT" sz="2300" spc="-1" strike="noStrike">
                <a:solidFill>
                  <a:srgbClr val="464653"/>
                </a:solidFill>
                <a:latin typeface="Gill Sans MT"/>
              </a:rPr>
              <a:t>, t</a:t>
            </a:r>
            <a:r>
              <a:rPr b="0" i="1" lang="it-IT" sz="2300" spc="-1" strike="noStrike" baseline="-25000">
                <a:solidFill>
                  <a:srgbClr val="464653"/>
                </a:solidFill>
                <a:latin typeface="Gill Sans MT"/>
              </a:rPr>
              <a:t>2</a:t>
            </a:r>
            <a:r>
              <a:rPr b="0" i="1" lang="it-IT" sz="2300" spc="-1" strike="noStrike">
                <a:solidFill>
                  <a:srgbClr val="464653"/>
                </a:solidFill>
                <a:latin typeface="Gill Sans MT"/>
              </a:rPr>
              <a:t>, … , t</a:t>
            </a:r>
            <a:r>
              <a:rPr b="0" i="1" lang="it-IT" sz="2300" spc="-1" strike="noStrike" baseline="-25000">
                <a:solidFill>
                  <a:srgbClr val="464653"/>
                </a:solidFill>
                <a:latin typeface="Gill Sans MT"/>
              </a:rPr>
              <a:t>n-1 </a:t>
            </a:r>
            <a:r>
              <a:rPr b="0" i="1" lang="it-IT" sz="2300" spc="-1" strike="noStrike">
                <a:solidFill>
                  <a:srgbClr val="464653"/>
                </a:solidFill>
                <a:latin typeface="Gill Sans MT"/>
              </a:rPr>
              <a:t>for 1&lt;= i &lt; n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300" spc="-1" strike="noStrike">
                <a:solidFill>
                  <a:srgbClr val="464653"/>
                </a:solidFill>
                <a:latin typeface="Gill Sans MT"/>
              </a:rPr>
              <a:t>A state M’ is reachable from a state M if and only if M </a:t>
            </a:r>
            <a:r>
              <a:rPr b="0" lang="it-IT" sz="2300" spc="-1" strike="noStrike">
                <a:solidFill>
                  <a:srgbClr val="464653"/>
                </a:solidFill>
                <a:latin typeface="Gill Sans MT"/>
                <a:ea typeface="ＭＳ Ｐゴシック"/>
              </a:rPr>
              <a:t>→ M’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</p:txBody>
      </p:sp>
      <p:sp>
        <p:nvSpPr>
          <p:cNvPr id="392" name="Segnaposto numero diapositiva 2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A5EF0-5A9A-49C9-94A4-CE768339B6CB}" type="slidenum">
              <a:rPr b="0" lang="it-IT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CasellaDiTesto 2"/>
          <p:cNvSpPr/>
          <p:nvPr/>
        </p:nvSpPr>
        <p:spPr>
          <a:xfrm>
            <a:off x="7151400" y="436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Gill Sans MT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CasellaDiTesto 6"/>
          <p:cNvSpPr/>
          <p:nvPr/>
        </p:nvSpPr>
        <p:spPr>
          <a:xfrm>
            <a:off x="1534680" y="3573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Gill Sans MT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755280" y="228600"/>
            <a:ext cx="793116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Pre-set and Post-set - Transition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6" name="Segnaposto numero diapositiva 2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8AB89-81CF-4CCD-9D3E-FC61E1C72A24}" type="slidenum">
              <a:rPr b="0" lang="it-IT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7" name="Immagine 3" descr="Schermata 2013-10-21 a 17.05.28.png"/>
          <p:cNvPicPr/>
          <p:nvPr/>
        </p:nvPicPr>
        <p:blipFill>
          <a:blip r:embed="rId1"/>
          <a:stretch/>
        </p:blipFill>
        <p:spPr>
          <a:xfrm>
            <a:off x="826920" y="1844640"/>
            <a:ext cx="74282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755280" y="228600"/>
            <a:ext cx="793116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Pre-set and Post-set - Plac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9" name="Segnaposto numero diapositiva 2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9E89A-A94B-4CA2-9416-9519BEB2C0EB}" type="slidenum">
              <a:rPr b="0" lang="it-IT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0" name="Immagine 3" descr="Schermata 2013-10-21 a 17.06.52.png"/>
          <p:cNvPicPr/>
          <p:nvPr/>
        </p:nvPicPr>
        <p:blipFill>
          <a:blip r:embed="rId1"/>
          <a:stretch/>
        </p:blipFill>
        <p:spPr>
          <a:xfrm>
            <a:off x="266760" y="1914480"/>
            <a:ext cx="8610480" cy="30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0T09:02:22Z</dcterms:created>
  <dc:creator>Barbara Re</dc:creator>
  <dc:description/>
  <dc:language>en-US</dc:language>
  <cp:lastModifiedBy>Barbara Re</cp:lastModifiedBy>
  <cp:lastPrinted>2014-09-13T18:02:50Z</cp:lastPrinted>
  <dcterms:modified xsi:type="dcterms:W3CDTF">2015-01-22T13:34:06Z</dcterms:modified>
  <cp:revision>250</cp:revision>
  <dc:subject>Lezioni Laboratorio Informatico per i database turistici</dc:subject>
  <dc:title>Presentazione corso</dc:title>
</cp:coreProperties>
</file>